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9E4B-7F34-4F99-A41C-792144CF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osaic from: http://www.mosaicartsource.com/mosaicart/mosaic_art_gallery/sonia_king_mosaic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al Mosaic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hr.nlm.nih.gov/handbook/illustrations/mosaic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cancerous cells from: http://www.sciencedirect.com/science/article/pii/S15356108110043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E22-6C1D-4941-8F1F-6D82EAB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002-ED58-4BEF-90CB-4832FE28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E63-A454-4C70-A7B7-2C1970D9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AA2-BDF1-45F4-A6D4-BC800EF3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F34-93AE-4BA7-86D8-96A1FEA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161-613B-47C9-B6A2-DA6AC18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CD8-8235-4E5C-97C0-E1A08AE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28D-6535-4784-B432-93FBAA6E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626-052B-4DA8-B778-009DB0AC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B86-567C-4D0A-B0CA-AE7F418E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8CC-08E0-4A88-A173-5DBE363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87-3FE1-4EBD-AEAE-C2995E3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AB64-A31B-4D88-BAD2-790204C5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Mosaicism Linked to Aging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4040" y="609480"/>
            <a:ext cx="749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19:28Z</dcterms:created>
  <dc:creator>rubina khan</dc:creator>
  <dc:description/>
  <dc:language>en-US</dc:language>
  <cp:lastModifiedBy>rubina khan</cp:lastModifiedBy>
  <dcterms:modified xsi:type="dcterms:W3CDTF">2012-05-15T02:46:49Z</dcterms:modified>
  <cp:revision>2</cp:revision>
  <dc:subject/>
  <dc:title>Genetic Mosaicism Linked to Aging and Cancer</dc:title>
</cp:coreProperties>
</file>